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3FE3-D562-449A-A8F1-5BF80FE7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CDCC-0C8B-4697-BDC9-0DC7A1F8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0295-A481-45D7-BE6F-05DC34AE3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3875-B247-4C5F-B6D6-0B03995C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D6D1-A818-46E2-B27F-E078052D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68B4-3E6C-4E90-8F30-0529CFE0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87E3-2905-4302-89F7-E0A277C5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9073-8117-4188-A6B5-C9A73DD7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B69D-2DCF-4F3F-9E26-CF1596AB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C772-81A3-4E0F-ADFE-B8946485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9E90-5967-4BA4-A696-76D8F950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5C4B-1334-4C73-A40A-E5B5EF86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4fe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89B8-0591-4E2C-A2E4-5700E0509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4fe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Comic Sans MS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Chalkboard"/>
              </a:rPr>
              <a:t>What affect does gender have on favorite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77120" y="2743200"/>
            <a:ext cx="1361880" cy="1793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4fe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Mrs. Riffel for helping me use Pand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"Pandora Radio - Wikipedia, the free encyclopedia." </a:t>
            </a:r>
            <a:r>
              <a:rPr b="0" i="1" lang="en-US" sz="1800" spc="-1" strike="noStrike">
                <a:solidFill>
                  <a:srgbClr val="990099"/>
                </a:solidFill>
                <a:latin typeface="Arial"/>
              </a:rPr>
              <a:t>Wikipedia, the free encyclopedia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. N.p., n.d. Web. 24 Mar. 2011. &lt;http://en.wikipedia.org/wiki/Pandora_(music_service)&gt;.</a:t>
            </a: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327636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"Pandora Radio - Listen to Free Internet Radio, Find New Music." </a:t>
            </a:r>
            <a:r>
              <a:rPr b="0" i="1" lang="en-US" sz="1800" spc="-1" strike="noStrike">
                <a:solidFill>
                  <a:srgbClr val="990099"/>
                </a:solidFill>
                <a:latin typeface="Arial"/>
              </a:rPr>
              <a:t>Pandora Radio - Listen to Free Internet Radio, Find New Music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. N.p., n.d. Web. 24 Mar. 2011. &lt;http://www.pandora.com/#/&gt;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4fe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Chalkboard"/>
              </a:rPr>
              <a:t>Have you ever wondered why some kinds of music are more popular than others? Have you wondered if gender has and affect on favorite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4fe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Comic Sans MS"/>
              </a:rPr>
              <a:t>Background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Some of the different types of songs may have an effect on rhythm tonality, vocal harmonies, and the sounds of instru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There are 2,000 focus traits, and that means things that make up mus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4fe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I think the guys will like faster beats rather than slower beats, and the girls will like maybe in between fast speed and slow sp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4fe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Comic Sans MS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A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Pan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Note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5 Bo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5 Gi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4fe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First you have 5 boys and 5 gir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Next you have them type in a song that they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Then you let them listen to songs that pandora finds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Finally you compare observations and see what girls like more and what boys like mor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4fe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Comic Sans MS"/>
              </a:rPr>
              <a:t>Major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halkboard"/>
              </a:rPr>
              <a:t>There was more variety in girls and in guys. Most of the people that I tested, the music they like had to do with the vocal harmon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halkboard"/>
              </a:rPr>
              <a:t>The girls liked more of electronica influences, rather than the boys. Electronica influences are the sounds that people put on a song that make it have an echo or other sound eff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4fe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In the boys and girls there wasn’t much of a difference, but there was many that had to do with how the singer’s voice sounded like in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4fe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Comic Sans MS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halkboard"/>
              </a:rPr>
              <a:t>My hypothesis was incorrect, because I thought there would be a difference between boy and girls. There was many of the same things of each ge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20:56:20Z</dcterms:created>
  <dc:creator>USD376</dc:creator>
  <dc:description/>
  <dc:language>en-US</dc:language>
  <cp:lastModifiedBy>USD376</cp:lastModifiedBy>
  <dcterms:modified xsi:type="dcterms:W3CDTF">2011-03-28T14:12:28Z</dcterms:modified>
  <cp:revision>16</cp:revision>
  <dc:subject/>
  <dc:title>Problem</dc:title>
</cp:coreProperties>
</file>